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89D-D163-4959-AE3F-5F3EF040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308-57B9-416D-9915-7CD36EAA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960-FE4D-4383-BBFE-01379C63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349-8E91-4DC2-A581-930E43BE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C0C0-34F4-422D-8ACE-4F4E785E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4E9E-D24A-42D8-A542-503C398B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2DAB-D741-424D-8362-F4C90C23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C6DA-24FB-47DD-8F28-1572BDC1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10CB-D64F-4C67-A8BE-7EBB3AAB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FFFB-0A6B-46D5-8CCE-D2844130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7A15-5B10-4CFC-854C-AF52B692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954-B8CD-42BE-80F9-9B019DBC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3E5A-ED0F-48DA-B35B-4DCDA0C3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3EAE-1208-480D-8CBE-FC08E919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7DE9-637A-4DCC-AB03-A5C672FF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D24F-1390-47F5-BA10-67240781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8DAB-0492-4BB9-AAE3-A1D00822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33B-2757-49A6-9324-8318C4B2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854-FE47-4900-B860-397713F3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344-CA0B-4683-852F-A65D8493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803-A1EA-42B9-92B4-FF74EEAB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4130-26EE-418F-BEC1-F7BB42DF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9C5-3FC6-4902-AF61-B797F708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5920-177D-4B98-AC21-32BAF538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96B5-198F-4F6C-8C20-DA5259328F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993E-2A17-4A79-B15D-6B69CF75A4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22.verizon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alliance.cingularinteractive.com/dev/cda/home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www.t-mobile.com/personal/individual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2351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Optimal Cellular Plan Finder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c458"/>
                </a:solidFill>
                <a:uFillTx/>
                <a:latin typeface="Times New Roman"/>
              </a:rPr>
              <a:t>Team 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458"/>
                </a:solidFill>
                <a:latin typeface="Times New Roman"/>
              </a:rPr>
              <a:t>Anthony Alexa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458"/>
                </a:solidFill>
                <a:latin typeface="Times New Roman"/>
              </a:rPr>
              <a:t>Allan Boo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458"/>
                </a:solidFill>
                <a:latin typeface="Times New Roman"/>
              </a:rPr>
              <a:t>Jacques Bleind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458"/>
                </a:solidFill>
                <a:latin typeface="Times New Roman"/>
              </a:rPr>
              <a:t>Keith Singlet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Veriz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1371600" cy="345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Sprint Logo"/>
          <p:cNvPicPr/>
          <p:nvPr/>
        </p:nvPicPr>
        <p:blipFill>
          <a:blip r:embed="rId3"/>
          <a:stretch/>
        </p:blipFill>
        <p:spPr>
          <a:xfrm>
            <a:off x="1828800" y="604800"/>
            <a:ext cx="1066680" cy="690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NEXTEL"/>
          <p:cNvPicPr/>
          <p:nvPr/>
        </p:nvPicPr>
        <p:blipFill>
          <a:blip r:embed="rId4"/>
          <a:stretch/>
        </p:blipFill>
        <p:spPr>
          <a:xfrm>
            <a:off x="7620120" y="685800"/>
            <a:ext cx="1295280" cy="490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cingula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762120"/>
            <a:ext cx="1295640" cy="365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T-Mobile USA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8320" y="762120"/>
            <a:ext cx="1371600" cy="341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AT&amp;T Wireless"/>
          <p:cNvPicPr/>
          <p:nvPr/>
        </p:nvPicPr>
        <p:blipFill>
          <a:blip r:embed="rId9"/>
          <a:stretch/>
        </p:blipFill>
        <p:spPr>
          <a:xfrm>
            <a:off x="6172200" y="762120"/>
            <a:ext cx="129528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Data Input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7724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Run Crystal Ball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520" y="4114800"/>
            <a:ext cx="1292760" cy="901800"/>
            <a:chOff x="2520" y="4114800"/>
            <a:chExt cx="1292760" cy="901800"/>
          </a:xfrm>
        </p:grpSpPr>
        <p:sp>
          <p:nvSpPr>
            <p:cNvPr id="243" name=""/>
            <p:cNvSpPr/>
            <p:nvPr/>
          </p:nvSpPr>
          <p:spPr>
            <a:xfrm flipV="1">
              <a:off x="685800" y="4114800"/>
              <a:ext cx="60948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20" y="464832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lan-Typ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298520" y="4114440"/>
            <a:ext cx="2282760" cy="1785960"/>
            <a:chOff x="1298520" y="4114440"/>
            <a:chExt cx="2282760" cy="1785960"/>
          </a:xfrm>
        </p:grpSpPr>
        <p:sp>
          <p:nvSpPr>
            <p:cNvPr id="246" name=""/>
            <p:cNvSpPr/>
            <p:nvPr/>
          </p:nvSpPr>
          <p:spPr>
            <a:xfrm flipV="1">
              <a:off x="2286000" y="4114440"/>
              <a:ext cx="129528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98520" y="5257800"/>
              <a:ext cx="125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lcula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istic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352680" y="4114440"/>
            <a:ext cx="3276720" cy="2243160"/>
            <a:chOff x="3352680" y="4114440"/>
            <a:chExt cx="3276720" cy="2243160"/>
          </a:xfrm>
        </p:grpSpPr>
        <p:sp>
          <p:nvSpPr>
            <p:cNvPr id="249" name=""/>
            <p:cNvSpPr/>
            <p:nvPr/>
          </p:nvSpPr>
          <p:spPr>
            <a:xfrm flipV="1">
              <a:off x="4648320" y="4114440"/>
              <a:ext cx="1981080" cy="1631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52680" y="571500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imulation – Daytime Minutes per Mont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Model Output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I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88394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Which is the Optimal Choice?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1295280"/>
          <a:ext cx="9144000" cy="518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1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209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Demonstration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Limitations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90296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ination cha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ming cha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distribution of monthly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mbersome – due to Crystal Ball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ac458"/>
                </a:solidFill>
                <a:latin typeface="Times New Roman"/>
              </a:rPr>
              <a:t>Q&amp;A</a:t>
            </a:r>
            <a:endParaRPr b="0" lang="en-US" sz="9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2819160"/>
            <a:ext cx="82263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Agenda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Background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live in New York and need a new cellular phone plan since your current plan is going to exp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desire a model to review cellular plans of all the major providers to make an optimal dec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Formulation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identify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owest c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ellular Plan with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ighest qu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Formulation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 Vari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usage patterns 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vs. Off-P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ekday vs. Week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of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ing vs. Out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-network vs. Out-of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Formulation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of daytime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ginal cost of excess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ghts and Weekend plan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lover minutes plan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Assumptions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192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er does not incur switching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er does not have any budgetary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thly minutes used are normally dis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73680" y="1598760"/>
            <a:ext cx="3813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er is evaluating nationwide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-network calls are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plans offer free nights and weekend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Model Overview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-80460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months of cellular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-80460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l model derives monthly mean of day calls and standard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-80460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te crystal ball to simulate twelve  months of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Model Overview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nual cost for all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west cost plan by prov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frontier of possible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21:43:27Z</dcterms:created>
  <dc:creator>Stern School of Business</dc:creator>
  <dc:description/>
  <dc:language>en-US</dc:language>
  <cp:lastModifiedBy>baseuser</cp:lastModifiedBy>
  <dcterms:modified xsi:type="dcterms:W3CDTF">2004-05-03T17:32:43Z</dcterms:modified>
  <cp:revision>20</cp:revision>
  <dc:subject/>
  <dc:title>Slide 1</dc:title>
</cp:coreProperties>
</file>